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02800" cy="89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303200" y="683280"/>
            <a:ext cx="4495680" cy="33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10280" y="4271400"/>
            <a:ext cx="5681880" cy="40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my notes for slid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6854760"/>
          </a:xfrm>
          <a:prstGeom prst="rect">
            <a:avLst/>
          </a:prstGeom>
          <a:ln w="0">
            <a:noFill/>
          </a:ln>
        </p:spPr>
      </p:pic>
      <p:sp>
        <p:nvSpPr>
          <p:cNvPr id="1" name="">
            <a:hlinkClick r:id="" action="ppaction://hlinkshowjump?jump=endshow"/>
          </p:cNvPr>
          <p:cNvSpPr/>
          <p:nvPr/>
        </p:nvSpPr>
        <p:spPr>
          <a:xfrm>
            <a:off x="8431200" y="101520"/>
            <a:ext cx="361800" cy="362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>
            <a:hlinkClick r:id="" action="ppaction://hlinkshowjump?jump=lastslide"/>
          </p:cNvPr>
          <p:cNvSpPr/>
          <p:nvPr/>
        </p:nvSpPr>
        <p:spPr>
          <a:xfrm>
            <a:off x="7896240" y="0"/>
            <a:ext cx="460440" cy="576360"/>
          </a:xfrm>
          <a:custGeom>
            <a:avLst/>
            <a:gdLst>
              <a:gd name="textAreaLeft" fmla="*/ 29520 w 460440"/>
              <a:gd name="textAreaRight" fmla="*/ 430920 w 460440"/>
              <a:gd name="textAreaTop" fmla="*/ 29520 h 576360"/>
              <a:gd name="textAreaBottom" fmla="*/ 546840 h 576360"/>
            </a:gdLst>
            <a:ahLst/>
            <a:rect l="textAreaLeft" t="textAreaTop" r="textAreaRight" b="textAreaBottom"/>
            <a:pathLst>
              <a:path w="21600" h="27034">
                <a:moveTo>
                  <a:pt x="0" y="0"/>
                </a:moveTo>
                <a:lnTo>
                  <a:pt x="21600" y="0"/>
                </a:lnTo>
                <a:lnTo>
                  <a:pt x="21600" y="27034"/>
                </a:lnTo>
                <a:lnTo>
                  <a:pt x="0" y="27034"/>
                </a:lnTo>
                <a:close/>
              </a:path>
              <a:path fill="lightenLess" w="21600" h="2703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4">
                <a:moveTo>
                  <a:pt x="21600" y="0"/>
                </a:moveTo>
                <a:lnTo>
                  <a:pt x="21600" y="27034"/>
                </a:lnTo>
                <a:lnTo>
                  <a:pt x="20200" y="25634"/>
                </a:lnTo>
                <a:lnTo>
                  <a:pt x="20200" y="1400"/>
                </a:lnTo>
                <a:close/>
              </a:path>
              <a:path fill="darkenLess" w="21600" h="27034">
                <a:moveTo>
                  <a:pt x="21600" y="27034"/>
                </a:moveTo>
                <a:lnTo>
                  <a:pt x="0" y="27034"/>
                </a:lnTo>
                <a:lnTo>
                  <a:pt x="1400" y="25634"/>
                </a:lnTo>
                <a:lnTo>
                  <a:pt x="20200" y="25634"/>
                </a:lnTo>
                <a:close/>
              </a:path>
              <a:path fill="lighten" w="21600" h="27034">
                <a:moveTo>
                  <a:pt x="0" y="27034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firstslide"/>
          </p:cNvPr>
          <p:cNvSpPr/>
          <p:nvPr/>
        </p:nvSpPr>
        <p:spPr>
          <a:xfrm>
            <a:off x="7469280" y="101520"/>
            <a:ext cx="361800" cy="362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firstslide"/>
          </p:cNvPr>
          <p:cNvSpPr/>
          <p:nvPr/>
        </p:nvSpPr>
        <p:spPr>
          <a:xfrm>
            <a:off x="304920" y="266760"/>
            <a:ext cx="736560" cy="749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76960" y="912960"/>
            <a:ext cx="568404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  <a:ea typeface="Arial"/>
              </a:rPr>
              <a:t>Absolute Monarchs in Europe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  <a:ea typeface="Arial"/>
              </a:rPr>
              <a:t>1500–1800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773360" y="1936800"/>
            <a:ext cx="6718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everal countries in Europe come under the control of absolute monarchs, and Parliament challenges the monarch's authority in Great Britai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771920" y="1827360"/>
            <a:ext cx="558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Arial"/>
              </a:rPr>
              <a:t>Religious Wars and Power Struggles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72320" y="941400"/>
            <a:ext cx="443412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6e19"/>
                </a:solidFill>
                <a:latin typeface="Arial"/>
                <a:ea typeface="Arial"/>
              </a:rPr>
              <a:t>The Reign of Louis XIV</a:t>
            </a:r>
            <a:r>
              <a:rPr b="1" lang="en-US" sz="3000" spc="-1" strike="noStrike">
                <a:solidFill>
                  <a:srgbClr val="cb6e19"/>
                </a:solidFill>
                <a:latin typeface="Arial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773360" y="2403360"/>
            <a:ext cx="58640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enry of Navar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enry ascends to French throne in 1589 and adop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tholic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sues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Edict of Nant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a declaration of religiou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l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828800" y="22845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708200" y="793800"/>
            <a:ext cx="658800" cy="506160"/>
            <a:chOff x="1708200" y="793800"/>
            <a:chExt cx="658800" cy="506160"/>
          </a:xfrm>
        </p:grpSpPr>
        <p:sp>
          <p:nvSpPr>
            <p:cNvPr id="134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87480" y="96192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773360" y="3905280"/>
            <a:ext cx="581004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uis XIII and Cardinal Richelie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Cardinal Richelie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Louis XIII’s minister who ru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creases power of the Bourbons by limit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uguenots’ freed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so weakens power of the no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771920" y="1598760"/>
            <a:ext cx="49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Arial"/>
              </a:rPr>
              <a:t>Writers Turn Toward Skepticism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773360" y="2174760"/>
            <a:ext cx="5445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New Attitu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Skepticis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—the idea that nothing can be know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or cert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708200" y="793800"/>
            <a:ext cx="658800" cy="506160"/>
            <a:chOff x="1708200" y="793800"/>
            <a:chExt cx="658800" cy="506160"/>
          </a:xfrm>
        </p:grpSpPr>
        <p:sp>
          <p:nvSpPr>
            <p:cNvPr id="144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887480" y="96192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773360" y="3117960"/>
            <a:ext cx="57369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ontaigne and Descar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ontaigne explores ideas about life’s meaning 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ss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artes uses observation and reason to crea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w philosoph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72640" y="1598760"/>
            <a:ext cx="412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Arial"/>
              </a:rPr>
              <a:t>Louis XIV Comes to Power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73360" y="2174760"/>
            <a:ext cx="5816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New French Ru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Louis XI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the most powerful ruler in French his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708200" y="793800"/>
            <a:ext cx="658800" cy="506160"/>
            <a:chOff x="1708200" y="793800"/>
            <a:chExt cx="658800" cy="506160"/>
          </a:xfrm>
        </p:grpSpPr>
        <p:sp>
          <p:nvSpPr>
            <p:cNvPr id="154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887480" y="96192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773360" y="2871720"/>
            <a:ext cx="57369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uis, the Boy 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atred of Mazarin—young Louis’s minister—lead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 rio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773360" y="3814920"/>
            <a:ext cx="57369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uis Weakens the Nobles’ Autho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uis takes control in 166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oints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intenda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government agents—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llect tax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773360" y="5038560"/>
            <a:ext cx="57369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conomic Grow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Jean Baptiste Co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finance minister—help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conomy g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1685, Louis cancels Edict of Nantes; Hugueno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lee Fra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771560" y="1598760"/>
            <a:ext cx="42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Arial"/>
              </a:rPr>
              <a:t>The Sun King’s Grand Style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773360" y="2174760"/>
            <a:ext cx="5445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Life of Luxu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uis lives very well, with every meal a fea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1708200" y="793800"/>
            <a:ext cx="658800" cy="506160"/>
            <a:chOff x="1708200" y="793800"/>
            <a:chExt cx="658800" cy="506160"/>
          </a:xfrm>
        </p:grpSpPr>
        <p:sp>
          <p:nvSpPr>
            <p:cNvPr id="166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887480" y="96192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73360" y="2886120"/>
            <a:ext cx="57880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uis Controls the No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uis keeps nobles at palace to increase his pow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ver th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ilds magnificent palace at Versail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773360" y="4138560"/>
            <a:ext cx="57369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atronage of the A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ersailles is a center of arts during reign of Loui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rpose of the arts is to glorify Lo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773360" y="2174760"/>
            <a:ext cx="544500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ttempts to Expand France’s Bound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uis fights wars in 1660s, 1670s to exp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1680s, many countries unite against him 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ague of Augsbur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ance is weakened by poor harvests, warfare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gh tax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1708200" y="793800"/>
            <a:ext cx="658800" cy="506160"/>
            <a:chOff x="1708200" y="793800"/>
            <a:chExt cx="658800" cy="506160"/>
          </a:xfrm>
        </p:grpSpPr>
        <p:sp>
          <p:nvSpPr>
            <p:cNvPr id="176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887480" y="96192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773360" y="4243320"/>
            <a:ext cx="57369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ar of the Spanish Succ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War of the Spanish Success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begins in 17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ttempts to prevent union of the French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panish thr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ds in 1714; France and Spain lose som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ssess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772640" y="1593720"/>
            <a:ext cx="45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Arial"/>
              </a:rPr>
              <a:t>Louis Fights Disastrous Wars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500"/>
                            </p:stCondLst>
                            <p:childTnLst>
                              <p:par>
                                <p:cTn id="3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773360" y="2174760"/>
            <a:ext cx="54450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uis’s Death and Leg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uis dies leaving mixed lega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ule makes France a major military and cultur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wer in Euro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s wars and palace leave France with heav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b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1708200" y="793800"/>
            <a:ext cx="658800" cy="506160"/>
            <a:chOff x="1708200" y="793800"/>
            <a:chExt cx="658800" cy="506160"/>
          </a:xfrm>
        </p:grpSpPr>
        <p:sp>
          <p:nvSpPr>
            <p:cNvPr id="187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887480" y="96192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780200" y="1593720"/>
            <a:ext cx="38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Louis Fights Disastrous Wars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1370160" y="2486160"/>
            <a:ext cx="5104800" cy="1640520"/>
            <a:chOff x="1370160" y="2486160"/>
            <a:chExt cx="5104800" cy="1640520"/>
          </a:xfrm>
        </p:grpSpPr>
        <p:sp>
          <p:nvSpPr>
            <p:cNvPr id="193" name=""/>
            <p:cNvSpPr/>
            <p:nvPr/>
          </p:nvSpPr>
          <p:spPr>
            <a:xfrm>
              <a:off x="1371600" y="2486160"/>
              <a:ext cx="153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Section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370160" y="2867040"/>
              <a:ext cx="5104800" cy="12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3399"/>
                  </a:solidFill>
                  <a:latin typeface="Arial"/>
                  <a:ea typeface="Arial"/>
                </a:rPr>
                <a:t>Central European </a:t>
              </a:r>
              <a:endParaRPr b="0" lang="en-US" sz="4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3399"/>
                  </a:solidFill>
                  <a:latin typeface="Arial"/>
                  <a:ea typeface="Arial"/>
                </a:rPr>
                <a:t>Monarchs Clash</a:t>
              </a:r>
              <a:r>
                <a:rPr b="1" lang="en-US" sz="4500" spc="-1" strike="noStrike">
                  <a:solidFill>
                    <a:srgbClr val="003399"/>
                  </a:solidFill>
                  <a:latin typeface="Arial"/>
                  <a:ea typeface="Times New Roman"/>
                </a:rPr>
                <a:t> </a:t>
              </a:r>
              <a:endParaRPr b="0" lang="en-US" sz="4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370160" y="4100400"/>
            <a:ext cx="602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fter a period of turmoil, absolute monarchs rule Austria and the Germanic state of Pruss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500"/>
                            </p:stCondLst>
                            <p:childTnLst>
                              <p:par>
                                <p:cTn id="3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773000" y="1827360"/>
            <a:ext cx="34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Arial"/>
              </a:rPr>
              <a:t>The Thirty Years’ War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773360" y="2403360"/>
            <a:ext cx="57880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ising Ten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nsion rises between Lutherans and Catholics 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entral Euro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828800" y="22845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203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887480" y="96840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773360" y="3390840"/>
            <a:ext cx="57880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ohemian Protestants Revo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1618, Protestants revolt against Catholi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apsburg rul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ult is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Thirty Years’ W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conflict over religion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d, 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68720" y="885960"/>
            <a:ext cx="650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6e19"/>
                </a:solidFill>
                <a:latin typeface="Arial"/>
                <a:ea typeface="Arial"/>
              </a:rPr>
              <a:t>Central European Monarchs Clash</a:t>
            </a:r>
            <a:r>
              <a:rPr b="1" lang="en-US" sz="3000" spc="-1" strike="noStrike">
                <a:solidFill>
                  <a:srgbClr val="cb6e19"/>
                </a:solidFill>
                <a:latin typeface="Arial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773360" y="4929120"/>
            <a:ext cx="57369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apsburg Triump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om 1618 to 1630, Hapsburg armies have man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cto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oops plunder many German vill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500"/>
                            </p:stCondLst>
                            <p:childTnLst>
                              <p:par>
                                <p:cTn id="4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73360" y="2174760"/>
            <a:ext cx="5445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apsburg Defea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1630, tide turns in favor of Protest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773360" y="2862360"/>
            <a:ext cx="57369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eace of Westphal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ar ruins German economy, greatly decreas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p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ace of Westphalia (1648) ends w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eaty weakens Hapsburgs, strengthens F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eaty introduces idea of negotiating terms of pe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217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887480" y="96840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1773360" y="4672080"/>
            <a:ext cx="57369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eginning of Modern St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eaty recognizes Europe as group of independ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778400" y="1593720"/>
            <a:ext cx="312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The Thirty Years’ War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773000" y="1598760"/>
            <a:ext cx="465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Arial"/>
              </a:rPr>
              <a:t>States Form in Central Europe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73360" y="2174760"/>
            <a:ext cx="5445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conomic Contrasts with the W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conomy in central Europe still based on serf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gricul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773360" y="3147840"/>
            <a:ext cx="57369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veral Weak Emp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downing nobles in central Europe block grow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f kings’ 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ttoman and Holy Roman empires are also wea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229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887480" y="96840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1773360" y="4403880"/>
            <a:ext cx="5445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ustria Grows Stron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apsburgs in Austria take more lands, rule larg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mp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773360" y="5386320"/>
            <a:ext cx="57369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ia Theresa Inherits the Austrian Thr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Maria Theres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becomes empress of Austria, fac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years of w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000"/>
                            </p:stCondLst>
                            <p:childTnLst>
                              <p:par>
                                <p:cTn id="4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76960" y="912960"/>
            <a:ext cx="568404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  <a:ea typeface="Arial"/>
              </a:rPr>
              <a:t>Absolute Monarchs in Europe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  <a:ea typeface="Arial"/>
              </a:rPr>
              <a:t>1500–1800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046240" y="2511360"/>
            <a:ext cx="1741680" cy="3812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2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2046240" y="3073320"/>
            <a:ext cx="1741680" cy="3812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2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2" action="ppaction://hlinksldjump"/>
          </p:cNvPr>
          <p:cNvSpPr/>
          <p:nvPr/>
        </p:nvSpPr>
        <p:spPr>
          <a:xfrm>
            <a:off x="2046240" y="3606840"/>
            <a:ext cx="1741680" cy="3808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2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3" action="ppaction://hlinksldjump"/>
          </p:cNvPr>
          <p:cNvSpPr/>
          <p:nvPr/>
        </p:nvSpPr>
        <p:spPr>
          <a:xfrm>
            <a:off x="2046240" y="4140360"/>
            <a:ext cx="1741680" cy="3808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2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45160" y="2502000"/>
            <a:ext cx="494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ain’s Empire and European Absolutis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48040" y="3078000"/>
            <a:ext cx="286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Reign of Louis XI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43000" y="3591000"/>
            <a:ext cx="416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entral European Monarchs Clas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45520" y="4129200"/>
            <a:ext cx="31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bsolute Rulers of Russ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46240" y="4673520"/>
            <a:ext cx="1741680" cy="3812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2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44800" y="4662360"/>
            <a:ext cx="465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arliament Limits the English Monarch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5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5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5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5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774800" y="159876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Arial"/>
              </a:rPr>
              <a:t>Prussia Challenges Austria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773360" y="2174760"/>
            <a:ext cx="544500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Rise of Pruss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henzollern rulers of Prussia build Europe’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st arm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ll themselves kings and become absolu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narc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bles resist royal power, but king buys loyal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240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887480" y="96840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1773360" y="3986280"/>
            <a:ext cx="57369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ederick the Gre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Frederick the Gre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becomes king of Pruss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forces father’s military policies but softens som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f his law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000"/>
                            </p:stCondLst>
                            <p:childTnLst>
                              <p:par>
                                <p:cTn id="4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5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773360" y="2174760"/>
            <a:ext cx="544500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ar of the Austrian Succ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1740, Frederick starts war against Austria 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ain Siles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ia Theresa resists Prussian power but los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lesia in trea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 result of war, Prussia becomes a major pow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Euro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250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887480" y="96840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1773360" y="4253040"/>
            <a:ext cx="57369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Seven Years’ W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ustria allies with France against Britain and Pruss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1756, Frederick attacks Saxony, launching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Sev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Years’ W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ance loses colonies in North America; Brita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ains Ind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78400" y="1593720"/>
            <a:ext cx="366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Prussia Challenges Austria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0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500"/>
                            </p:stCondLst>
                            <p:childTnLst>
                              <p:par>
                                <p:cTn id="4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1000"/>
                            </p:stCondLst>
                            <p:childTnLst>
                              <p:par>
                                <p:cTn id="5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1369440" y="2486160"/>
            <a:ext cx="7456320" cy="1057680"/>
            <a:chOff x="1369440" y="2486160"/>
            <a:chExt cx="7456320" cy="1057680"/>
          </a:xfrm>
        </p:grpSpPr>
        <p:sp>
          <p:nvSpPr>
            <p:cNvPr id="257" name=""/>
            <p:cNvSpPr/>
            <p:nvPr/>
          </p:nvSpPr>
          <p:spPr>
            <a:xfrm>
              <a:off x="1371600" y="2486160"/>
              <a:ext cx="153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Section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369440" y="2867040"/>
              <a:ext cx="7456320" cy="67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3399"/>
                  </a:solidFill>
                  <a:latin typeface="Arial"/>
                  <a:ea typeface="Arial"/>
                </a:rPr>
                <a:t>Absolute Rulers of Russia</a:t>
              </a:r>
              <a:r>
                <a:rPr b="1" lang="en-US" sz="4500" spc="-1" strike="noStrike">
                  <a:solidFill>
                    <a:srgbClr val="003399"/>
                  </a:solidFill>
                  <a:latin typeface="Arial"/>
                  <a:ea typeface="Times New Roman"/>
                </a:rPr>
                <a:t> </a:t>
              </a:r>
              <a:endParaRPr b="0" lang="en-US" sz="4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1370160" y="3510000"/>
            <a:ext cx="602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the Great makes many changes in Russia to try to make it more like Western Europ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1000"/>
                            </p:stCondLst>
                            <p:childTnLst>
                              <p:par>
                                <p:cTn id="5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500"/>
                            </p:stCondLst>
                            <p:childTnLst>
                              <p:par>
                                <p:cTn id="5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69440" y="941400"/>
            <a:ext cx="502704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6e19"/>
                </a:solidFill>
                <a:latin typeface="Arial"/>
                <a:ea typeface="Arial"/>
              </a:rPr>
              <a:t>Absolute Rulers of Russia</a:t>
            </a:r>
            <a:r>
              <a:rPr b="1" lang="en-US" sz="3000" spc="-1" strike="noStrike">
                <a:solidFill>
                  <a:srgbClr val="cb6e19"/>
                </a:solidFill>
                <a:latin typeface="Arial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773360" y="2403360"/>
            <a:ext cx="57880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van the Terr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1533,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Ivan the Terri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becomes king of Russ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ruggles for power with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boya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landown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izes power and is crowned czar, meaning “caesar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828800" y="22845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266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874880" y="96840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774440" y="1827360"/>
            <a:ext cx="221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Arial"/>
              </a:rPr>
              <a:t>The First Cz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774800" y="3936960"/>
            <a:ext cx="54658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ule by T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1560, Ivan turns against boyars, kills them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izes la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773360" y="4900680"/>
            <a:ext cx="57369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ise of the Romanov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van’s heir is weak, leading to period of turmo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1613, Michael Romanov becomes cz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0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500"/>
                            </p:stCondLst>
                            <p:childTnLst>
                              <p:par>
                                <p:cTn id="5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000"/>
                            </p:stCondLst>
                            <p:childTnLst>
                              <p:par>
                                <p:cTn id="5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773000" y="1598760"/>
            <a:ext cx="49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Arial"/>
              </a:rPr>
              <a:t>Peter the Great Comes to Power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773360" y="2174760"/>
            <a:ext cx="5445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Rise of Pe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Peter the Gre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becomes czar in 1696, begins 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form Russ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279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874880" y="96840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1774800" y="3146400"/>
            <a:ext cx="546588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ussia Contrasts with Euro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d of boyars and ser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ut off geographically from Euro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ulturally isolated, little contact with wester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uro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ligious differences widen ga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773360" y="4938840"/>
            <a:ext cx="57369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eter Visits the W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1697, Peter visits western Europe to lear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uropean way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0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500"/>
                            </p:stCondLst>
                            <p:childTnLst>
                              <p:par>
                                <p:cTn id="5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1000"/>
                            </p:stCondLst>
                            <p:childTnLst>
                              <p:par>
                                <p:cTn id="5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774800" y="2174760"/>
            <a:ext cx="54658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eter’s Go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oal of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westerniz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using western Europ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 model for ch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774440" y="1593720"/>
            <a:ext cx="358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Arial"/>
              </a:rPr>
              <a:t>Peter Rules Absolutely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290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874880" y="96840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1774800" y="3165480"/>
            <a:ext cx="56548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eter’s Re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rings Orthodox Church under state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duces power of great landown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rnizes army by having European officers tra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ldi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500"/>
                            </p:stCondLst>
                            <p:childTnLst>
                              <p:par>
                                <p:cTn id="5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000"/>
                            </p:stCondLst>
                            <p:childTnLst>
                              <p:par>
                                <p:cTn id="5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1500"/>
                            </p:stCondLst>
                            <p:childTnLst>
                              <p:par>
                                <p:cTn id="5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774800" y="2174760"/>
            <a:ext cx="546588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esternizing Russ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roduces potato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rts Russia’s first news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aises women’s st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opts Western fash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vances educ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300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874880" y="96840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78400" y="1593720"/>
            <a:ext cx="32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Peter Rules Absolutely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0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500"/>
                            </p:stCondLst>
                            <p:childTnLst>
                              <p:par>
                                <p:cTn id="6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1500"/>
                            </p:stCondLst>
                            <p:childTnLst>
                              <p:par>
                                <p:cTn id="6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774800" y="2174760"/>
            <a:ext cx="5465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stablishing St. Petersbu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ter wants a seaport that will make travel 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st eas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ghts Sweden to win port on Baltic S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1703, begins building new capital called S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tersbur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ilding city takes many years; many serfs die 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y the time of Peter’s death, Russia is a power 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e reckoned with in Europ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310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74880" y="96840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1778400" y="1593720"/>
            <a:ext cx="32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Peter Rules Absolutely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0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500"/>
                            </p:stCondLst>
                            <p:childTnLst>
                              <p:par>
                                <p:cTn id="6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1000"/>
                            </p:stCondLst>
                            <p:childTnLst>
                              <p:par>
                                <p:cTn id="6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1370880" y="2486160"/>
            <a:ext cx="5961240" cy="1640520"/>
            <a:chOff x="1370880" y="2486160"/>
            <a:chExt cx="5961240" cy="1640520"/>
          </a:xfrm>
        </p:grpSpPr>
        <p:sp>
          <p:nvSpPr>
            <p:cNvPr id="316" name=""/>
            <p:cNvSpPr/>
            <p:nvPr/>
          </p:nvSpPr>
          <p:spPr>
            <a:xfrm>
              <a:off x="1371600" y="2486160"/>
              <a:ext cx="153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Section 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370880" y="2867040"/>
              <a:ext cx="5961240" cy="12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3399"/>
                  </a:solidFill>
                  <a:latin typeface="Arial"/>
                  <a:ea typeface="Arial"/>
                </a:rPr>
                <a:t>Parliament Limits the</a:t>
              </a:r>
              <a:br>
                <a:rPr sz="4500"/>
              </a:br>
              <a:r>
                <a:rPr b="1" lang="en-US" sz="4500" spc="-1" strike="noStrike">
                  <a:solidFill>
                    <a:srgbClr val="003399"/>
                  </a:solidFill>
                  <a:latin typeface="Arial"/>
                  <a:ea typeface="Arial"/>
                </a:rPr>
                <a:t>English Monarchy</a:t>
              </a:r>
              <a:r>
                <a:rPr b="1" lang="en-US" sz="4500" spc="-1" strike="noStrike">
                  <a:solidFill>
                    <a:srgbClr val="003399"/>
                  </a:solidFill>
                  <a:latin typeface="Arial"/>
                  <a:ea typeface="Times New Roman"/>
                </a:rPr>
                <a:t> </a:t>
              </a:r>
              <a:endParaRPr b="0" lang="en-US" sz="4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370160" y="4167360"/>
            <a:ext cx="602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bsolute rulers in England are overthrown, and Parliament gains pow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0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5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000"/>
                            </p:stCondLst>
                            <p:childTnLst>
                              <p:par>
                                <p:cTn id="6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1500"/>
                            </p:stCondLst>
                            <p:childTnLst>
                              <p:par>
                                <p:cTn id="6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772280" y="1827360"/>
            <a:ext cx="6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270880" y="941400"/>
            <a:ext cx="402876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6e19"/>
                </a:solidFill>
                <a:latin typeface="Arial"/>
                <a:ea typeface="Arial"/>
              </a:rPr>
              <a:t>Parliament Limits the</a:t>
            </a:r>
            <a:br>
              <a:rPr sz="3000"/>
            </a:br>
            <a:r>
              <a:rPr b="1" lang="en-US" sz="3000" spc="-1" strike="noStrike">
                <a:solidFill>
                  <a:srgbClr val="cb6e19"/>
                </a:solidFill>
                <a:latin typeface="Arial"/>
                <a:ea typeface="Arial"/>
              </a:rPr>
              <a:t>English Monarchy</a:t>
            </a:r>
            <a:r>
              <a:rPr b="1" lang="en-US" sz="3000" spc="-1" strike="noStrike">
                <a:solidFill>
                  <a:srgbClr val="cb6e19"/>
                </a:solidFill>
                <a:latin typeface="Arial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773360" y="2403360"/>
            <a:ext cx="57880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James’s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ames I of Scotland becomes king of England 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6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ruggles with Parliament over money, Churc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828800" y="22845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774800" y="1827360"/>
            <a:ext cx="40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Arial"/>
              </a:rPr>
              <a:t>Monarchs Defy Parlia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773360" y="3919680"/>
            <a:ext cx="57369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arles I Fights Parlia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ames’s son,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Charles 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becomes king in 16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so fights with Parliament over mon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rliament forces him to sign Petition of Right 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62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tition limits Charles’s power, but he ignores 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1704960" y="793800"/>
            <a:ext cx="658800" cy="511920"/>
            <a:chOff x="1704960" y="793800"/>
            <a:chExt cx="658800" cy="511920"/>
          </a:xfrm>
        </p:grpSpPr>
        <p:sp>
          <p:nvSpPr>
            <p:cNvPr id="329" name=""/>
            <p:cNvSpPr/>
            <p:nvPr/>
          </p:nvSpPr>
          <p:spPr>
            <a:xfrm>
              <a:off x="170496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877760" y="995400"/>
              <a:ext cx="30492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877760" y="96840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0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500"/>
                            </p:stCondLst>
                            <p:childTnLst>
                              <p:par>
                                <p:cTn id="6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1371240" y="2486160"/>
            <a:ext cx="6246000" cy="1640520"/>
            <a:chOff x="1371240" y="2486160"/>
            <a:chExt cx="6246000" cy="1640520"/>
          </a:xfrm>
        </p:grpSpPr>
        <p:sp>
          <p:nvSpPr>
            <p:cNvPr id="63" name=""/>
            <p:cNvSpPr/>
            <p:nvPr/>
          </p:nvSpPr>
          <p:spPr>
            <a:xfrm>
              <a:off x="1371600" y="2486160"/>
              <a:ext cx="153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Section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71240" y="2867040"/>
              <a:ext cx="6246000" cy="12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3399"/>
                  </a:solidFill>
                  <a:latin typeface="Arial"/>
                  <a:ea typeface="Arial"/>
                </a:rPr>
                <a:t>Spain’s Empire and</a:t>
              </a:r>
              <a:br>
                <a:rPr sz="4500"/>
              </a:br>
              <a:r>
                <a:rPr b="1" lang="en-US" sz="4500" spc="-1" strike="noStrike">
                  <a:solidFill>
                    <a:srgbClr val="003399"/>
                  </a:solidFill>
                  <a:latin typeface="Arial"/>
                  <a:ea typeface="Arial"/>
                </a:rPr>
                <a:t>European Absolutism</a:t>
              </a:r>
              <a:r>
                <a:rPr b="1" lang="en-US" sz="4500" spc="-1" strike="noStrike">
                  <a:solidFill>
                    <a:srgbClr val="003399"/>
                  </a:solidFill>
                  <a:latin typeface="Arial"/>
                  <a:ea typeface="Times New Roman"/>
                </a:rPr>
                <a:t> </a:t>
              </a:r>
              <a:endParaRPr b="0" lang="en-US" sz="4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1375200" y="4160880"/>
            <a:ext cx="686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uring a time of religious and econom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stability, Philip II rules Spain with a strong h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771560" y="1598760"/>
            <a:ext cx="27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Arial"/>
              </a:rPr>
              <a:t>English Civil War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773360" y="2174760"/>
            <a:ext cx="544500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ar Topples a 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1641, Parliament passes laws to limit king’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ult is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English Civil W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1642–1649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tween Puritans, 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1644,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Oliver Cromwe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becomes general 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ritan s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fter Puritans win, Charles faces trial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ecution in 164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1704960" y="793800"/>
            <a:ext cx="658800" cy="511920"/>
            <a:chOff x="1704960" y="793800"/>
            <a:chExt cx="658800" cy="511920"/>
          </a:xfrm>
        </p:grpSpPr>
        <p:sp>
          <p:nvSpPr>
            <p:cNvPr id="338" name=""/>
            <p:cNvSpPr/>
            <p:nvPr/>
          </p:nvSpPr>
          <p:spPr>
            <a:xfrm>
              <a:off x="170496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877760" y="995400"/>
              <a:ext cx="30492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877760" y="96840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0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500"/>
                            </p:stCondLst>
                            <p:childTnLst>
                              <p:par>
                                <p:cTn id="6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1000"/>
                            </p:stCondLst>
                            <p:childTnLst>
                              <p:par>
                                <p:cTn id="6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1500"/>
                            </p:stCondLst>
                            <p:childTnLst>
                              <p:par>
                                <p:cTn id="6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773360" y="2174760"/>
            <a:ext cx="54450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romwell’s R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1649, Cromwell abolishes monarchy, Hous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comes military dict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ppresses rebellion in Irel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774800" y="3774960"/>
            <a:ext cx="546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uritan Mor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ritans abolish activities they find sinfu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1704960" y="793800"/>
            <a:ext cx="658800" cy="511920"/>
            <a:chOff x="1704960" y="793800"/>
            <a:chExt cx="658800" cy="511920"/>
          </a:xfrm>
        </p:grpSpPr>
        <p:sp>
          <p:nvSpPr>
            <p:cNvPr id="348" name=""/>
            <p:cNvSpPr/>
            <p:nvPr/>
          </p:nvSpPr>
          <p:spPr>
            <a:xfrm>
              <a:off x="170496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877760" y="995400"/>
              <a:ext cx="30492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877760" y="96840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1778040" y="1593720"/>
            <a:ext cx="26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English Civil War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0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500"/>
                            </p:stCondLst>
                            <p:childTnLst>
                              <p:par>
                                <p:cTn id="7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1000"/>
                            </p:stCondLst>
                            <p:childTnLst>
                              <p:par>
                                <p:cTn id="7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773360" y="159876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Arial"/>
              </a:rPr>
              <a:t>Restoration and Revolution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773360" y="2174760"/>
            <a:ext cx="54450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romwell’s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fter Cromwell dies in 1658, governm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llap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xt year, Parliament asks son of Charles I 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774800" y="3679920"/>
            <a:ext cx="56656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arles II Reig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Restor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return of monarchy under Charles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Habeas corp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law requiring king to charg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isoner with cr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774800" y="4937040"/>
            <a:ext cx="54658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James II and the Glorious Rev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arles’s Catholic brother James becomes k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168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Glorious Revolu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bloodless overthrow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ames in 1688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1704960" y="793800"/>
            <a:ext cx="658800" cy="511920"/>
            <a:chOff x="1704960" y="793800"/>
            <a:chExt cx="658800" cy="511920"/>
          </a:xfrm>
        </p:grpSpPr>
        <p:sp>
          <p:nvSpPr>
            <p:cNvPr id="360" name=""/>
            <p:cNvSpPr/>
            <p:nvPr/>
          </p:nvSpPr>
          <p:spPr>
            <a:xfrm>
              <a:off x="170496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877760" y="995400"/>
              <a:ext cx="30492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877760" y="96840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0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500"/>
                            </p:stCondLst>
                            <p:childTnLst>
                              <p:par>
                                <p:cTn id="7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771560" y="1598760"/>
            <a:ext cx="423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Arial"/>
              </a:rPr>
              <a:t>Limits on Monarch’s Power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773360" y="2174760"/>
            <a:ext cx="54450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New Type of Monarch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testants William and Mary become rulers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gl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gree to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constitutional monarch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legal limi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 royal 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774800" y="3708360"/>
            <a:ext cx="54658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ill of Righ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1689, Parliament drafts Bill of Righ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ts limits on royal 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773360" y="4681440"/>
            <a:ext cx="57369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binet System Develo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1700s,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cabine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group of government minister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velo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nisters link majority party in Parliament wi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n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1704960" y="793800"/>
            <a:ext cx="658800" cy="511920"/>
            <a:chOff x="1704960" y="793800"/>
            <a:chExt cx="658800" cy="511920"/>
          </a:xfrm>
        </p:grpSpPr>
        <p:sp>
          <p:nvSpPr>
            <p:cNvPr id="371" name=""/>
            <p:cNvSpPr/>
            <p:nvPr/>
          </p:nvSpPr>
          <p:spPr>
            <a:xfrm>
              <a:off x="170496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877760" y="995400"/>
              <a:ext cx="30492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877760" y="96840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0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1000"/>
                            </p:stCondLst>
                            <p:childTnLst>
                              <p:par>
                                <p:cTn id="7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0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2344680" y="2827440"/>
            <a:ext cx="61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This is the end of the chapter presentation of lecture notes. Click the HOME or EXIT butt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381880" y="6010200"/>
            <a:ext cx="4953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0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476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8402760" y="6443640"/>
            <a:ext cx="5126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BAC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>
            <a:hlinkClick r:id="" action="ppaction://hlinkshowjump?jump=endshow"/>
          </p:cNvPr>
          <p:cNvSpPr/>
          <p:nvPr/>
        </p:nvSpPr>
        <p:spPr>
          <a:xfrm>
            <a:off x="8431200" y="111240"/>
            <a:ext cx="361800" cy="361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>
            <a:hlinkClick r:id="" action="ppaction://hlinkshowjump?jump=firstslide"/>
          </p:cNvPr>
          <p:cNvSpPr/>
          <p:nvPr/>
        </p:nvSpPr>
        <p:spPr>
          <a:xfrm>
            <a:off x="304920" y="266760"/>
            <a:ext cx="736560" cy="749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>
            <a:hlinkClick r:id="" action="ppaction://hlinkshowjump?jump=previousslide"/>
          </p:cNvPr>
          <p:cNvSpPr/>
          <p:nvPr/>
        </p:nvSpPr>
        <p:spPr>
          <a:xfrm>
            <a:off x="8408880" y="6045120"/>
            <a:ext cx="438120" cy="438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305160" y="1274760"/>
            <a:ext cx="5457960" cy="28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nt Slide Sh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 On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enu, selec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 In the pop-up menu, selec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crosoft PowerPoi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the dialog box does not include this pop-up, continue to step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 In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nt wha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ox, choose the presentation format you want to print: slides, notes, handouts, or out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Click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utton to print the PowerPoint pre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>
            <a:hlinkClick r:id="" action="ppaction://hlinkshowjump?jump=firstslide"/>
          </p:cNvPr>
          <p:cNvSpPr/>
          <p:nvPr/>
        </p:nvSpPr>
        <p:spPr>
          <a:xfrm>
            <a:off x="7469280" y="101520"/>
            <a:ext cx="361800" cy="362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411120" y="1644480"/>
            <a:ext cx="2816280" cy="210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72640" y="1827360"/>
            <a:ext cx="424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Arial"/>
              </a:rPr>
              <a:t>A Powerful Spanish Empire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69440" y="941400"/>
            <a:ext cx="422388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6e19"/>
                </a:solidFill>
                <a:latin typeface="Arial"/>
                <a:ea typeface="Arial"/>
              </a:rPr>
              <a:t>Spain’s Empire and</a:t>
            </a:r>
            <a:br>
              <a:rPr sz="3000"/>
            </a:br>
            <a:r>
              <a:rPr b="1" lang="en-US" sz="3000" spc="-1" strike="noStrike">
                <a:solidFill>
                  <a:srgbClr val="cb6e19"/>
                </a:solidFill>
                <a:latin typeface="Arial"/>
                <a:ea typeface="Arial"/>
              </a:rPr>
              <a:t>European Absolutism</a:t>
            </a:r>
            <a:r>
              <a:rPr b="1" lang="en-US" sz="3000" spc="-1" strike="noStrike">
                <a:solidFill>
                  <a:srgbClr val="cb6e19"/>
                </a:solidFill>
                <a:latin typeface="Arial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73360" y="2403360"/>
            <a:ext cx="56671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New Spanish Ru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 1556,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Philip I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egins ruling Spain and i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sses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708200" y="793800"/>
            <a:ext cx="658800" cy="518040"/>
            <a:chOff x="1708200" y="793800"/>
            <a:chExt cx="658800" cy="518040"/>
          </a:xfrm>
        </p:grpSpPr>
        <p:sp>
          <p:nvSpPr>
            <p:cNvPr id="72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4880" y="97452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1828800" y="22845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773360" y="3384720"/>
            <a:ext cx="626580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hilip II’s Emp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hilip seizes Portugal in 15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old and silver from Americas make Spain extremel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ealth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773360" y="4651200"/>
            <a:ext cx="582120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fender of Catholic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hilip defends Catholicism against Muslim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test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panish fleet helps defeat Ottomans at Lepant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 15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panish Armada defeated by British in 158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770840" y="1598760"/>
            <a:ext cx="62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Arial"/>
              </a:rPr>
              <a:t>Golden Age of Spanish Art and Literature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708200" y="793800"/>
            <a:ext cx="658800" cy="518040"/>
            <a:chOff x="1708200" y="793800"/>
            <a:chExt cx="658800" cy="518040"/>
          </a:xfrm>
        </p:grpSpPr>
        <p:sp>
          <p:nvSpPr>
            <p:cNvPr id="83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874880" y="97452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1773360" y="2174760"/>
            <a:ext cx="57369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l Greco and Velázque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 Greco uses unusual style to convey religiou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orks of Velázquez show Spanish court lif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773360" y="3422520"/>
            <a:ext cx="57369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n Quixo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1605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n Quixo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by Miguel de Cervantes i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blish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el marks birth of modern European no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774080" y="1598760"/>
            <a:ext cx="460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Arial"/>
              </a:rPr>
              <a:t>The Spanish Empire Weakens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708200" y="793800"/>
            <a:ext cx="658800" cy="518040"/>
            <a:chOff x="1708200" y="793800"/>
            <a:chExt cx="658800" cy="518040"/>
          </a:xfrm>
        </p:grpSpPr>
        <p:sp>
          <p:nvSpPr>
            <p:cNvPr id="93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874880" y="97452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1773360" y="2174760"/>
            <a:ext cx="57369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flation and Tax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lation weakens Spain’s econom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xes on lower class prevents development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ddle 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73360" y="3403440"/>
            <a:ext cx="57369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king Spain’s Enemies R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paniards buy goods abroad, making Spain’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emies ri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hilip declares bankruptcy three times due to wea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conom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773360" y="4946760"/>
            <a:ext cx="66592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Dutch Revo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testants in Netherlands win independence from Spain 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57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73720" y="1598760"/>
            <a:ext cx="488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Arial"/>
              </a:rPr>
              <a:t>The Independent Dutch Prosper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708200" y="793800"/>
            <a:ext cx="658800" cy="518040"/>
            <a:chOff x="1708200" y="793800"/>
            <a:chExt cx="658800" cy="518040"/>
          </a:xfrm>
        </p:grpSpPr>
        <p:sp>
          <p:nvSpPr>
            <p:cNvPr id="104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74880" y="97452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1773360" y="2174760"/>
            <a:ext cx="60753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Different Soci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therlands is a republic and practices religiou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ler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773360" y="3127320"/>
            <a:ext cx="580212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utch 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 1600s, Netherlands becomes center of Europe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mbrandt and Vermeer are famous Dutch pain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773360" y="4384800"/>
            <a:ext cx="626580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utch Trading Emp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utch merchants engage in world tr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utch have world’s largest trading fle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utch replace Italians as Europe’s bank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72640" y="1598760"/>
            <a:ext cx="341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Arial"/>
              </a:rPr>
              <a:t>Absolutism in Europe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708200" y="793800"/>
            <a:ext cx="658800" cy="518040"/>
            <a:chOff x="1708200" y="793800"/>
            <a:chExt cx="658800" cy="518040"/>
          </a:xfrm>
        </p:grpSpPr>
        <p:sp>
          <p:nvSpPr>
            <p:cNvPr id="115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874880" y="97452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1773360" y="2174760"/>
            <a:ext cx="57369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Theory of Absolut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ulers want to be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absolute monar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rulers wi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lete 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lieve in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divine righ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idea that monarch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present God on ear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73360" y="3699000"/>
            <a:ext cx="57369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rowing Power of Europe’s Monarc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cline of feudalism, rise of cities help monarch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ain 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cline in Church authority also increases 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773360" y="4956120"/>
            <a:ext cx="66592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rises Lead to Absolut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17th century is period of great upheav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narchs impose order by increasing their own 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70160" y="3502080"/>
            <a:ext cx="595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fter a century of war and riots, France was ruled by Louis XIV, the most powerful monarch of his 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370160" y="2397240"/>
            <a:ext cx="6800400" cy="1032840"/>
            <a:chOff x="1370160" y="2397240"/>
            <a:chExt cx="6800400" cy="1032840"/>
          </a:xfrm>
        </p:grpSpPr>
        <p:sp>
          <p:nvSpPr>
            <p:cNvPr id="125" name=""/>
            <p:cNvSpPr/>
            <p:nvPr/>
          </p:nvSpPr>
          <p:spPr>
            <a:xfrm>
              <a:off x="1370160" y="2397240"/>
              <a:ext cx="431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Section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370160" y="2787480"/>
              <a:ext cx="6800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3399"/>
                  </a:solidFill>
                  <a:latin typeface="Arial"/>
                  <a:ea typeface="Arial"/>
                </a:rPr>
                <a:t>The Reign of Louis XIV</a:t>
              </a:r>
              <a:r>
                <a:rPr b="1" lang="en-US" sz="4500" spc="-1" strike="noStrike">
                  <a:solidFill>
                    <a:srgbClr val="003399"/>
                  </a:solidFill>
                  <a:latin typeface="Arial"/>
                  <a:ea typeface="Times New Roman"/>
                </a:rPr>
                <a:t> </a:t>
              </a:r>
              <a:endParaRPr b="0" lang="en-US" sz="4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9T21:09:30Z</dcterms:created>
  <dc:creator>McDougal Littell</dc:creator>
  <dc:description/>
  <dc:language>en-US</dc:language>
  <cp:lastModifiedBy>Amy Kalas</cp:lastModifiedBy>
  <cp:lastPrinted>2003-11-12T20:33:16Z</cp:lastPrinted>
  <dcterms:modified xsi:type="dcterms:W3CDTF">2007-11-30T03:19:08Z</dcterms:modified>
  <cp:revision>854</cp:revision>
  <dc:subject/>
  <dc:title>No Slide Title</dc:title>
</cp:coreProperties>
</file>